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D1F7-B431-4D69-82C8-5C47B8E8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903-7EA9-4FFA-9DF3-41E235F7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AFE-9FA3-46D4-871D-9BCB2C7B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E3D-801B-4A53-A967-771B7358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001-D4D7-4442-9B11-44AC6B6C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BDB-4E0B-4CE8-8CBA-DF046102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8B9-4768-41C6-964F-786C416C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4CB-D58C-4A2A-A883-81593252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0EB3-CC1C-4147-8139-D89A3680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D7C-460B-402F-9731-8110E8B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6DA-2628-4ADF-B316-364E60F1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AD0-8FF9-4BF0-9216-6F235CD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6D9E-A4C6-44B5-8FBB-8A0B2579D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982000">
            <a:off x="539280" y="549360"/>
            <a:ext cx="5689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 MYSELF AND I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415200">
            <a:off x="3850920" y="5832360"/>
            <a:ext cx="50227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DE BY TIAH IR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76720" y="189000"/>
            <a:ext cx="5400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auhaus 93"/>
              </a:rPr>
              <a:t>!MY PROFILE!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989000"/>
            <a:ext cx="79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ull name:   Tiah Daryl I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:   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  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:    40 kil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:     Brune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 size:    7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es size: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0" y="2852640"/>
            <a:ext cx="28800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0000"/>
                </a:solidFill>
                <a:latin typeface="Arial"/>
              </a:rPr>
              <a:t>ppppppppppiiiiiiiiiiiiiiiiiiiiiicccccccccccttttttttttttttttttuuuuuuuuuurrrrrrrrrrrrrrrreeeeeeeee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Berlin Sans FB"/>
              </a:rPr>
              <a:t>MY FAMI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2997360"/>
            <a:ext cx="8209080" cy="35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Dad=Daryl Irons 4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Mum=Gina Irons 4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Older sister=Tahnee Irons 1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Younger sister=Tenaya Irons 10</a:t>
            </a:r>
            <a:r>
              <a:rPr b="1" lang="en-US" sz="3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268280"/>
            <a:ext cx="770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052640"/>
            <a:ext cx="777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I have a family of five. There's  my Dad, my Mum, my two sisters and pets. My family is very important to me. We all might have a laugh every now and then, or some of us might have had a fight or having a bad time. Our family doesn’t usually sit down and play a board game, but every time our Dad goes out of the country for his work, we usually have a family night or go to the pictures. I LOVE MY FAMI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-2359440" y="2943360"/>
            <a:ext cx="6264360" cy="10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PE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27280" y="260280"/>
            <a:ext cx="12765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Jokerman"/>
              </a:rPr>
              <a:t>RUB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300720" y="5877000"/>
            <a:ext cx="2124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Jokerman"/>
              </a:rPr>
              <a:t>DUCHES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2521080" cy="203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43640" y="3500280"/>
            <a:ext cx="2374920" cy="21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260280"/>
            <a:ext cx="46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erlin Sans FB"/>
              </a:rPr>
              <a:t>Ruby is 2 ½ years old and she is a staffy (short for Staffordshire). She has a light brown coat of fur and a sort of white diamond starting at her neck going down her back. She also has white coloured paws. I love my dog. I play with her all the ti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860640"/>
            <a:ext cx="47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 u="sng">
                <a:solidFill>
                  <a:srgbClr val="000000"/>
                </a:solidFill>
                <a:uFillTx/>
                <a:latin typeface="Berlin Sans FB"/>
              </a:rPr>
              <a:t>Duchess is 12 years old. She has white fur with light brown patches everywhere. She has a light pink nose which is very mo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0:43:42Z</dcterms:created>
  <dc:creator>Admin</dc:creator>
  <dc:description/>
  <dc:language>en-US</dc:language>
  <cp:lastModifiedBy>Admin</cp:lastModifiedBy>
  <dcterms:modified xsi:type="dcterms:W3CDTF">2009-03-04T04:09:00Z</dcterms:modified>
  <cp:revision>4</cp:revision>
  <dc:subject/>
  <dc:title>Slide 1</dc:title>
</cp:coreProperties>
</file>